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  <p:sldId id="259" r:id="rId29"/>
    <p:sldId id="260" r:id="rId30"/>
    <p:sldId id="261" r:id="rId31"/>
    <p:sldId id="262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slide" Target="slides/slide5.xml"/><Relationship Id="rId31" Type="http://schemas.openxmlformats.org/officeDocument/2006/relationships/slide" Target="slides/slide6.xml"/><Relationship Id="rId32" Type="http://schemas.openxmlformats.org/officeDocument/2006/relationships/slide" Target="slides/slide7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F8E4F7-2CB5-4980-AA32-785AFB6940B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AD25EC-DCDF-426B-893F-56524A7DE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ADD9B75-1F0A-4C6B-870F-D6E7E7A9C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9DCDD54-85B6-4499-AFE2-D936409C1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68F3B87-E2E6-42D0-A890-1BC57434D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5A13963-223F-41E4-A075-2861E3D73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4B7202C-C32D-488C-916B-E421C3230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ACF4D1D-C737-444C-BA66-5F467EF68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1B6D498-7D4B-4E7E-9C52-145796275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33A0B12-9487-4A8A-8407-FC9FA07FE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B183F24-2B39-49AD-830B-FC0D7A05940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34D1F0-FDE4-4F6D-BD43-4347EF56B23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EC0B92-5107-4FAD-9825-70FD52CE5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2C81EA-FAE0-4AD4-A6E6-8007433BC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23CB07-FB3A-441A-8DED-086A77750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DFEFE5-7BD1-4318-9A81-290155B1C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FA1C69-70C7-4144-90DC-80FA6C346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8390BF-D6E1-4B22-8A23-39DD76E74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55D521-BDCB-4AF3-A85E-E4DBF2AED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FE98B2-042C-4C71-B6B9-109D91647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31C255-989A-4819-B69A-A7F6D0C56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D875E4-01C2-440C-A75D-5852098FA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D90919-91CD-4672-AF42-0FD42BF8A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FC8167-AC33-46A6-B8CE-1BC15A8EC1B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7B024D-C4B7-4F9C-8448-78FA290D1A6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FB25864-596C-4EEE-B541-C8F5409C277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A8DF54A-FCE6-4359-A4F0-163C77301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1EF97C9-C52C-48BD-A15A-5090F546B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5FB5DAD-B947-41F2-A0CB-45939FCAE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1734677-3F08-46B7-8A05-3980DE407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6838552-9209-4D72-9318-810989C18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5A72B9B-53B2-4A4A-9FCE-BAE5B9DCA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DD516D2-DAAA-4054-8424-7C380684C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265D7A3-499F-4DA7-9707-0EA5B2079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215FEA-963D-457E-94AC-7D505257F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F55489B-0C82-46D5-BF8B-3026E9436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896CA74-BA9B-4B85-ABF7-A9DBAC7F9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27CA5F9-BB18-4C6F-8AB6-528F8FC038B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9CE2FFF-5E22-421F-A3E4-829AB13D290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1056DFF-D390-4F7D-B0AF-6FECE369F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52B7864-59B9-4C58-95A0-19B3B373A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C34805B-6E57-4D5D-8641-9485B7550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2C8CB92-67DC-4A3E-AEB7-8F8456495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93F9ED0-C1FE-4EA0-BB1F-47E4D84AB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E2DED7F-EF70-45BA-9A31-C4317885E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7B592D-F91A-4878-93C3-18384F7B8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3D9C56C-921D-49D7-8270-9CE9C2384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D0326D3-C035-4769-90C8-BE75A4D06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0B4555B-4895-4485-8050-19E96C35B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FE6025B-3976-4F0C-9189-133B79B99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D4400FB-58B3-4179-9BCD-BD68D2CA407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028AFC-AB66-4F38-813E-78BF3B050D7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947D6C-DA9F-457E-85B6-784EA0405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C1842B-B73C-4F7A-A64C-C401B2643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A2E769-CDFC-4177-A1F9-BA1D0349E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F50AC4-298A-4855-A4B8-FB5AB2752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59D94F-7A36-4393-A203-48276A291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73BC0F-A42E-4590-9551-5F5DAA760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481135-2593-4F1A-A464-AE8A5B60A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86DCB7-04F9-4142-8DCF-079FDF367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8E44A8-BF0B-46C9-88AC-ED0DE260B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BB9499-4515-4ED9-B3B0-7BA76FA90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C12DEF-6DEF-48E0-BCB1-E63B43099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BF94F3-5589-4349-8AFE-3F0DF053005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2E5FAA-819C-4CDB-8ADC-942C3E99C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B700C3-A7A4-47B1-AF4C-DC5FF3F90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05044F-B989-4203-8C0E-4DF665E9D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F2CE0A-78A4-48CD-B31D-A697DCC46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E543B3-0CD2-445C-B657-D1FAB374D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FD9EFF-337D-42F6-8DCB-21114B2F3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2C62B0-3441-4E15-B452-B2C4541F4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159572-1AC3-40C2-86B2-8E731CE23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5DD2A3-32F0-4981-A178-CAA70EAEB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F4F5C6-73AF-4174-8F2C-E1161B9F9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5BEDF5-7521-47B6-B7A6-1B98EBD31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C4FE8C-0A3E-40B1-8DDC-EC243CC3E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681543-EC84-4E88-945F-009681DDE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E024AE-AC01-4B5E-B3C4-79F3B5C2F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441491-E96C-482E-BBC0-B3CE33C0D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4A4669-FCA5-4BF1-9B90-BD0964BD4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8057A4-F32F-491A-BF2F-5E7F57E4A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B77278-FC7D-433E-8C98-7802A20B8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0955B4-C187-4D2D-AB68-AC294C756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B2FFDE-D19A-4ED2-AF7A-5DA2730C7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35FC81-8BB7-4DFF-9CC7-90B5BB7D3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483BA1-7497-4814-B4CF-256DC1A8B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233CF8-F94F-4036-BD44-BB5D0C4FF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3DB346-23FD-4489-8ACE-5CF51BA39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5A44D3-2E3C-4CD3-A752-30FA6F0F8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AE99FD-54A6-4A94-A659-852E5CA79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3DE4BB-F228-471A-9973-BB605FBE2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F7E14B-6883-46DB-A760-98F67F001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EA7EF7-9DC0-477F-9F4F-392661307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454F38-91A9-413E-9064-72DC9A0C7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F9E57C-7F53-49FD-A0E0-72D537E17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AEC867-B410-423F-9018-1FD39FFC4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252245-35E0-489D-BCE4-B26A3D9B0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06EC9C-2DB7-4AB0-8678-CB02AC685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B4DF10-7496-4AB7-9A33-2F2985D3F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BB57D6-B245-4ADA-9860-77D3C999F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3A8B72-E581-46A4-B7C9-770129C98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42343B-F732-4373-8463-F771B2489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11F37A-492A-44F6-8DC9-DC7123688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E9EA89-0E34-4384-B59B-E7F41553D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67991F3-C93C-48F9-A360-A92CB0C29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732E3D0-F8B6-4D45-9E2C-B96E07AE4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998D459-82D0-4EB4-A690-1AB31E196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0669118-AD51-4AB2-AF6E-4AEA51A34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B8C8FD7-8881-4CEA-8345-DDFC92666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E793209-16F3-439E-8197-32BC4A7DE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2F76D47-AA56-473F-90D0-64DCAD5F4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2C926F-38B2-40F8-B967-6354F1393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F3196E-581C-4599-8191-98F00BBB0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52E215C-FF1A-4F7A-9752-833B24E5E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FE04EB1-46E9-4FDE-B4AD-C8ABA2654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71E185C-1851-4F9F-9755-26E3A62A9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F721625-B21E-44C1-9094-B4E030DF9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F2DAC57-A143-4513-B2D9-979FC129E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5E754C1-AA95-4E69-8961-0CF19952D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15CFB08-48F2-491B-B300-F269CED01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9B9C093-7F5A-4BEB-AFD6-52C3F97FC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64EEC65-BCC4-4EA5-ACA6-96F61C538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A7D28FE-11C2-4F5F-A112-91D4928F6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EDCE8A-AC63-4C2A-B65E-4E022B032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ABF785C-6CE6-4E96-B1F9-5AA474E24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C134377-6E16-43E5-8A55-3DD3F39C1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747ACCE-F8AB-40F0-9AB6-DBB60E189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9876334-2059-4D7E-96F7-0978F5F71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C17532A-F500-4094-9EBE-FBB964C0F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FF4E1BD-AF34-4373-8E00-6320FDE3D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468965C-8834-463D-90AA-7D1D60DB5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CE8C9F5-2E47-4F30-85C5-65FA98B17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A2A6EF2-60A3-477C-95CA-E2E1D8777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7E828F3-2BC4-4B12-8D6D-E692CA6EB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F275E8-405D-4144-A3FE-4EE59FD7D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11BD49F-FFC6-4BFC-9759-AF3B8DB28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F49C3F2-7B6B-4343-9418-BFF398731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3AC584D-4A81-4EDD-A48A-224D8912E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2EC1375-A9A9-471D-B42B-A6F73C478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91E1A60-F363-4B27-8FE4-014FDA8FE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1237EEA-8AF1-49D1-B67B-CCABA4951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CCDA43B-AA86-4762-8BBB-2AFD46DEC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24E142C-9A31-4F4D-86E1-18A6FDEDE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BE7342A-4965-4493-83C4-E0EA1EA8A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0F61D4E-DBA9-4964-A6F3-A029F063A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8E469D-D661-4ACC-A31C-4D847CDFD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59B1CCE-79FB-4275-85B6-395C02D1F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8620861-DFAB-4F00-AE25-CA6570717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024C084-D77A-4E37-9BA6-FD10C0C23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E16CC7C-419B-4ACE-9484-1B6123B65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CA440F6-3B61-4BE0-95FA-714C5A064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9E00014-DE0E-4618-B250-C52AA8FA0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FDB874D-794C-4439-9120-500FF7DC0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3105D9A-039B-465B-BFBF-E4C0734E0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2B126E2-5B76-4F0F-8978-D1E5C4B89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9800F58-D618-4E4F-9CFC-3A03EDFBD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9A1F9E-597B-4AA6-BD68-51BF469CA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97C33A2-C261-4731-8E81-CAC5AFD99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E5CFB48-BC74-40DB-AC29-E8DAD6B98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5BDDC92-2691-4A33-AD83-64BBE71AE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063B3D8-6C1A-4F0B-B4A4-BD0E0588E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690A7AB-53F8-49EA-A39A-65AEE46E1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F0A8387-70A5-4D48-8EE8-D8A427347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5788232-2900-40A0-B494-576966CBA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FDA0E12-0B4C-4833-9729-0A61AD88F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7F74177-9525-46F4-9A29-B08C52C68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AE9DD8E-0C00-4AF8-86D4-456AAE96D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240C08F-3018-4690-B2AB-6935212A237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43F1EC0-0F3B-4105-99DC-80D1018C4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DC123E8-9322-4C77-97D9-BFFC7052E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BB0930A-D5B2-4B3A-89AC-BF60998CB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C9841E2-5C9E-430F-8168-48037F5BF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772C831-CDB2-4737-BFF3-EC854A7B9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13B90B7-A8E0-43F9-8AED-0C101AF37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26CB4CC-E99F-42B6-BA15-0AD3FF54B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7225C9D-3E11-4FBD-A9F4-FA2D81431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E3BA402-31D2-43B0-A78A-FA330A64C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B171749-CDDA-4541-B338-5A710F9BB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4B89356-3F46-407C-9A0D-513CB29B3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D706529-7C95-4E7D-A0A0-C4975870D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BBBF78C-9E55-4094-9B3C-7D3D25E7B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EC0F46E-DFBC-4637-8F38-935480993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2631526-3F77-4F19-850E-70AA39082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0FE6549-C273-4F8E-9AE0-CC140A7D8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2599844-5794-47F1-AA6E-B789A7C23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AC59E50-9981-443A-9639-C90025031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542104B-C0BF-4346-AFF5-116FB995C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7617487-E5F6-4314-8EDB-ACAB8C6BC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E70A6BE-1CB0-48DB-B6FC-94C80FE5E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8D4654E-1E3B-4826-A7C8-462C5EFCB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8DEA515-F789-45B2-A529-A19D14213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14DE6C7-7FD6-4CCB-90FE-8B5EB6CF9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FBD253D-7681-40F4-B14F-04898909E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2A026FC-9095-4FF9-A37F-2C9A92697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57173CC-E5BE-4758-B19C-AA8BB63AB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567FFD7-7EE6-468C-ABB8-843035AF6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1219EC3-2223-44C8-8AE8-E65EC2E84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562B071-6288-49CA-9857-9BE0847DF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F25C1C6-FCCC-4412-AC2A-C38068514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9A87786-2C24-4713-8BB0-E0D1CB15F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93F654A-5E05-44F0-9769-EBD4303E4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365084D-84A1-4B2D-AE03-486473E37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8215AD3-5171-4FED-8757-5FF49047B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503102C-491F-47E3-A443-D7B1384A1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AE2FC58-C679-49AF-A44E-6F2003360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8AC39CF-76DA-4777-9FA2-C8970AB44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F1D2823-B988-42D2-9DA5-30380AD1C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796786A-2F1A-48F1-9655-5FE81D11F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9E16596-6BDB-4A68-A57A-A834085D2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EF5A421-C467-422D-9839-6F20AA025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58EFC33-EAEF-4C51-9FAF-12FE2EE40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5D95A5-C833-45BD-ABB5-E24E90D24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70AE5B0-5B62-4F44-BE06-F7286CEF7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296EEF8-4666-4F43-8542-A58DB4697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8A097B3-6CA1-4D31-BE91-0FFEC56E7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F299D65-78DE-4CB8-A153-F8BFB4965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5FA68E9-7FEE-4816-AC99-F473848BB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D485EC0-E556-4555-A935-93C7F1BA2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AF4D3F1-DF78-451B-A389-D79FC996F97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8E3B51-B11C-4EBA-A1C4-A2B67BB20E6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DE4847-A6C2-47DC-8C00-0DEE179C0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A30F87-B1EF-4549-B734-CEB94E680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C44968-A682-4569-BDDA-95A8ECC77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7A90E4-4071-4ED5-B28D-EDBBD08AD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88325A-0620-4B8F-A5D2-99049B580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B0BCDF-EAB1-4F5E-A037-9321607B4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A71CB7-B1B4-4785-84EB-5F8A5ADCB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A1507D-7B89-4E13-9D2B-321BC4251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C35B94-5CD4-42E5-B239-E44122F4A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4A1F17-E74F-41FB-BC1A-B00DEA239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756F1B-F3DA-4BE9-88D7-6348A5AAE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D7115B-070B-4743-9AA1-AEE115A5344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36E80D0-84E2-45AD-8990-45958489C25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B70484-7595-43A6-9F4A-F31D7C085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AAB8B22-8A9D-4A54-A693-C958834E8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FBC0972-B66D-49F9-94A0-2EC6C6CC8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376FC35-552E-4C25-86E2-D177FBFF1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7FE4E33-5B9C-4FD7-B535-E04563E05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25A9966-DD10-4ADC-8EB1-36E11A1AF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EEE54EB-0E3F-41C5-9BE7-8C898D652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A4CF34D-25AA-4E0E-805A-3076A988E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261871D-B726-44FC-B9C5-A4AE0B49A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D1978A4-E6DA-4F2F-A331-1EA77878E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7438C04-B1DE-4025-91A2-836F5CDD5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950A90-998B-4B40-ADD8-ECC089BE1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C4CA175-8885-4D7C-9142-E6D739C93B1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41B8089-14E3-462C-BFAE-C83716F2D70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9D0A5C4-1A84-4184-B656-FEE63F9CF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E5631D6-9566-4225-AE25-2CF58EDFB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28D356D-318E-4DC8-85C1-D790C910E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2722E21-FB1E-4068-8608-337969A22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2AF9CB6-632C-4392-AFB3-0475C632E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641F74A-D8FD-4DDC-AFCC-25C811D03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825A720-CF0C-4B9B-A638-DFD08E0D6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1F71B5C-D417-4301-A078-8F0618611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F98767-5BC9-4106-BAB1-B02174C3A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CEA5E7D-56E2-4289-A8E8-F4DF9FEEF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212D6DF-C3DA-4DBD-897E-EA500A4A0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BBCFE97-6A6A-4DF9-84A1-38FE5C949B9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2EB937-4A9F-4991-8C60-37B9F7893ED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CF2388-B1F5-47BA-9768-31E8CDD27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1A04B8-B5FF-456E-9BD0-A11224097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965243-5E2D-4D5B-91C6-C9080BBA2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B38737-2D35-4C5E-B76B-9D5A5C428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3B44AB-ABA3-43A7-B390-BC67C2ACA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A2E6F1-9814-4D82-A547-12771FB1C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C4DFF6-C155-49F8-94BC-4DEDF6A86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7702FD-1B80-490F-9ABE-48EFDBE5D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C46E95-88BF-4BD5-83CB-EB365F3C9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41DB55-3012-4A0B-B056-E84D8C515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695E91-ECD8-4651-93DF-657A69BB7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D2EAE8-1374-458D-A9BE-7D902BCA2CE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52F9AEA-0485-4793-A122-68273BE734D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F9D9308-5F29-4E25-9ECD-A5022D315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CCF9743-70D5-4F76-8028-DE0964634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3C67105-D1A2-437D-9BE7-466ADBE4D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72AD63C-CD84-4019-AF29-DD3EDECA5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610ED3-E289-479D-9EBA-47E39B984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F76FF37-C7E9-4211-BFAA-AD10A4EE7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0ECBF1E-0FF6-439C-8CC7-B00253F54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A1E9F32-AD2E-4DB3-AE52-3FAFC25A0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26C7D75-B533-49AB-8668-1E9BAA6B3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0A3F363-082B-477B-A76B-5D11DFF5A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9B1068F-FDF6-4E20-8D9E-32ACC50A0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CD54D88-9968-4B6A-9974-83C0E8E0EB8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A0333EB-BC6B-4F4D-8B47-CE86D02639B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ECE9D85-1196-4964-B8EF-60DD3AE83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6C99B48-8C55-410D-8F9C-B34D92370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25601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1" name="组合 2560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2" name="椭圆 2560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椭圆 2560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椭圆 2560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椭圆 2560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椭圆 2560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57E87-DCBD-441A-A2B4-D1C3F4642097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dt" idx="2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C767D-24D1-40AC-AB09-C39F3F414543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sldNum" idx="2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489F9-4D42-4203-BBD1-029CD6CC92CE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dt" idx="2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 type="sldNum" idx="2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2D519-6797-48D3-B518-BA48CED9CC85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2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DF860-A7F8-4EBB-B922-569A7F04343B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 type="ftr" idx="2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74EB0-A788-45A1-A18B-DD88D91BBBEF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 type="ftr" idx="3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424DE-3892-48FA-8983-358ED72822DB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 type="ftr" idx="3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CEFA1-F0FB-4D5F-AA09-48AAD227AF88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 type="ftr" idx="3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F4E88-0C40-4748-B34F-C0FA680C61A6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 type="dt" idx="4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 type="ftr" idx="4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78B3C-5A7B-46FC-B208-F6EC957FB431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dt" idx="4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ftr" idx="4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44C67-E453-4C43-B08C-FF3B0FBCEA14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图片 25601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48" name="组合 2560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49" name="椭圆 2560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椭圆 2560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椭圆 2560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椭圆 2560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椭圆 2560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8F0B8-9003-46DD-AF43-0D2FADD80251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 type="dt" idx="4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 type="ftr" idx="4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76280-4DDD-463B-9DEC-7EF68D42F78F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4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E4667-19C3-4C58-BAD3-538122BD9204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 type="dt" idx="5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 type="ftr" idx="5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68C31-C07F-48A8-9361-13C754235002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 type="dt" idx="5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 type="ftr" idx="5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EC989-0716-41A7-99DF-7E10DA3285F1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 type="dt" idx="5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 type="ftr" idx="5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8581C-BF14-454E-912E-0632C0504E2E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6CE19-D27B-468A-8931-16FE2E2F6C52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98FA3-D2C6-4E77-B0D7-D87D6A027082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2B175-BD21-4A99-9678-49ADDA478FB8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sldNum" idx="1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1693A-0343-466C-8C30-72EC55835B03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42FD9-3793-4956-94F2-7FF5DEF392C4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sldNum" idx="1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4CC08-9AE7-4CC9-976E-554C1E6BE7ED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dt" idx="1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 type="sldNum" idx="1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C2EC6-6D98-475D-AA81-CBAEE01ABA54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TextBox 2"/>
          <p:cNvSpPr/>
          <p:nvPr/>
        </p:nvSpPr>
        <p:spPr>
          <a:xfrm>
            <a:off x="5286240" y="-3240"/>
            <a:ext cx="38592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四年级数学上册（</a:t>
            </a:r>
            <a:r>
              <a:rPr b="1" lang="en-US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RJ</a:t>
            </a:r>
            <a:r>
              <a:rPr b="1" lang="zh-CN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）    教学课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Oval 5"/>
          <p:cNvSpPr/>
          <p:nvPr/>
        </p:nvSpPr>
        <p:spPr>
          <a:xfrm>
            <a:off x="2768760" y="2689200"/>
            <a:ext cx="558720" cy="46368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Rectangle 6"/>
          <p:cNvSpPr/>
          <p:nvPr/>
        </p:nvSpPr>
        <p:spPr>
          <a:xfrm>
            <a:off x="352440" y="2647800"/>
            <a:ext cx="84456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  </a:t>
            </a:r>
            <a:r>
              <a:rPr b="0" lang="en-US" sz="3000" spc="-1" strike="noStrike">
                <a:solidFill>
                  <a:srgbClr val="ffffff"/>
                </a:solidFill>
                <a:latin typeface="微软雅黑"/>
                <a:ea typeface="微软雅黑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课时   梯 形 的 认 识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9" name=""/>
          <p:cNvGrpSpPr/>
          <p:nvPr/>
        </p:nvGrpSpPr>
        <p:grpSpPr>
          <a:xfrm>
            <a:off x="2284560" y="2448000"/>
            <a:ext cx="4929120" cy="360"/>
            <a:chOff x="2284560" y="2448000"/>
            <a:chExt cx="4929120" cy="360"/>
          </a:xfrm>
        </p:grpSpPr>
        <p:sp>
          <p:nvSpPr>
            <p:cNvPr id="990" name="Line 10"/>
            <p:cNvSpPr/>
            <p:nvPr/>
          </p:nvSpPr>
          <p:spPr>
            <a:xfrm>
              <a:off x="2284560" y="2448000"/>
              <a:ext cx="4929120" cy="0"/>
            </a:xfrm>
            <a:prstGeom prst="line">
              <a:avLst/>
            </a:prstGeom>
            <a:ln w="57240">
              <a:solidFill>
                <a:srgbClr val="13c4c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"/>
            <p:cNvSpPr txBox="1"/>
            <p:nvPr/>
          </p:nvSpPr>
          <p:spPr>
            <a:xfrm>
              <a:off x="2284560" y="2448000"/>
              <a:ext cx="49291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2" name="Rectangle 7"/>
          <p:cNvSpPr/>
          <p:nvPr/>
        </p:nvSpPr>
        <p:spPr>
          <a:xfrm>
            <a:off x="0" y="1757520"/>
            <a:ext cx="2440080" cy="71424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Oval 8"/>
          <p:cNvSpPr/>
          <p:nvPr/>
        </p:nvSpPr>
        <p:spPr>
          <a:xfrm>
            <a:off x="2317680" y="1746360"/>
            <a:ext cx="381240" cy="42552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Rectangle 11"/>
          <p:cNvSpPr/>
          <p:nvPr/>
        </p:nvSpPr>
        <p:spPr>
          <a:xfrm>
            <a:off x="2330280" y="1846440"/>
            <a:ext cx="357480" cy="59508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Oval 8"/>
          <p:cNvSpPr/>
          <p:nvPr/>
        </p:nvSpPr>
        <p:spPr>
          <a:xfrm>
            <a:off x="2317680" y="1746360"/>
            <a:ext cx="382680" cy="42552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Rectangle 11"/>
          <p:cNvSpPr/>
          <p:nvPr/>
        </p:nvSpPr>
        <p:spPr>
          <a:xfrm>
            <a:off x="2336760" y="1879560"/>
            <a:ext cx="357120" cy="59544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Rectangle 9"/>
          <p:cNvSpPr/>
          <p:nvPr/>
        </p:nvSpPr>
        <p:spPr>
          <a:xfrm>
            <a:off x="-239760" y="1744560"/>
            <a:ext cx="748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 </a:t>
            </a: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5 </a:t>
            </a: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元     </a:t>
            </a: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平行四边形和梯形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8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999" name="圆角矩形 5" descr=""/>
            <p:cNvPicPr/>
            <p:nvPr/>
          </p:nvPicPr>
          <p:blipFill>
            <a:blip r:embed="rId1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00" name="组合 4"/>
            <p:cNvGrpSpPr/>
            <p:nvPr/>
          </p:nvGrpSpPr>
          <p:grpSpPr>
            <a:xfrm>
              <a:off x="0" y="196560"/>
              <a:ext cx="429840" cy="273600"/>
              <a:chOff x="0" y="196560"/>
              <a:chExt cx="429840" cy="273600"/>
            </a:xfrm>
          </p:grpSpPr>
          <p:sp>
            <p:nvSpPr>
              <p:cNvPr id="1001" name="椭圆 11"/>
              <p:cNvSpPr/>
              <p:nvPr/>
            </p:nvSpPr>
            <p:spPr>
              <a:xfrm rot="16200000">
                <a:off x="242640" y="36072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02" name="椭圆 13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2364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3" name="椭圆 29"/>
              <p:cNvSpPr/>
              <p:nvPr/>
            </p:nvSpPr>
            <p:spPr>
              <a:xfrm rot="16200000">
                <a:off x="242640" y="23400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04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1096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5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4020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6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117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7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464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8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65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009" name="Text Box 3"/>
          <p:cNvSpPr/>
          <p:nvPr/>
        </p:nvSpPr>
        <p:spPr>
          <a:xfrm>
            <a:off x="2189520" y="1125360"/>
            <a:ext cx="483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你见过下面这样的图形吗？它们有什么共同点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0" name="Picture 4" descr="95"/>
          <p:cNvPicPr/>
          <p:nvPr/>
        </p:nvPicPr>
        <p:blipFill>
          <a:blip r:embed="rId8"/>
          <a:stretch/>
        </p:blipFill>
        <p:spPr>
          <a:xfrm>
            <a:off x="1044720" y="2060640"/>
            <a:ext cx="7267320" cy="1890720"/>
          </a:xfrm>
          <a:prstGeom prst="rect">
            <a:avLst/>
          </a:prstGeom>
          <a:ln w="0">
            <a:noFill/>
          </a:ln>
        </p:spPr>
      </p:pic>
      <p:sp>
        <p:nvSpPr>
          <p:cNvPr id="1011" name="Text Box 5"/>
          <p:cNvSpPr/>
          <p:nvPr/>
        </p:nvSpPr>
        <p:spPr>
          <a:xfrm>
            <a:off x="3470400" y="4581360"/>
            <a:ext cx="117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只有一组对边平行的四边形叫做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梯形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Rectangle 21"/>
          <p:cNvSpPr/>
          <p:nvPr/>
        </p:nvSpPr>
        <p:spPr>
          <a:xfrm>
            <a:off x="1001880" y="115920"/>
            <a:ext cx="1552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宋体"/>
              </a:rPr>
              <a:t>一、学习新知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八边形 7"/>
          <p:cNvSpPr/>
          <p:nvPr/>
        </p:nvSpPr>
        <p:spPr>
          <a:xfrm>
            <a:off x="314280" y="1138320"/>
            <a:ext cx="522360" cy="517320"/>
          </a:xfrm>
          <a:prstGeom prst="octagon">
            <a:avLst>
              <a:gd name="adj" fmla="val 29287"/>
            </a:avLst>
          </a:prstGeom>
          <a:solidFill>
            <a:srgbClr val="0070c0"/>
          </a:solidFill>
          <a:ln w="12600">
            <a:solidFill>
              <a:srgbClr val="95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Text Box 2"/>
          <p:cNvSpPr/>
          <p:nvPr/>
        </p:nvSpPr>
        <p:spPr>
          <a:xfrm>
            <a:off x="2231640" y="76500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认识梯形各部分名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5" name="Picture 3" descr="SNAGHTML1620e39"/>
          <p:cNvPicPr/>
          <p:nvPr/>
        </p:nvPicPr>
        <p:blipFill>
          <a:blip r:embed="rId1"/>
          <a:stretch/>
        </p:blipFill>
        <p:spPr>
          <a:xfrm>
            <a:off x="2038320" y="1774800"/>
            <a:ext cx="2590920" cy="1203480"/>
          </a:xfrm>
          <a:prstGeom prst="rect">
            <a:avLst/>
          </a:prstGeom>
          <a:ln w="0">
            <a:noFill/>
          </a:ln>
        </p:spPr>
      </p:pic>
      <p:sp>
        <p:nvSpPr>
          <p:cNvPr id="1016" name="Text Box 4"/>
          <p:cNvSpPr/>
          <p:nvPr/>
        </p:nvSpPr>
        <p:spPr>
          <a:xfrm>
            <a:off x="3094200" y="1413000"/>
            <a:ext cx="76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上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Text Box 5"/>
          <p:cNvSpPr/>
          <p:nvPr/>
        </p:nvSpPr>
        <p:spPr>
          <a:xfrm>
            <a:off x="3092400" y="293364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下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Text Box 6"/>
          <p:cNvSpPr/>
          <p:nvPr/>
        </p:nvSpPr>
        <p:spPr>
          <a:xfrm>
            <a:off x="2052720" y="2000160"/>
            <a:ext cx="62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Text Box 7"/>
          <p:cNvSpPr/>
          <p:nvPr/>
        </p:nvSpPr>
        <p:spPr>
          <a:xfrm>
            <a:off x="4429080" y="2000160"/>
            <a:ext cx="62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0" name="Group 8"/>
          <p:cNvGrpSpPr/>
          <p:nvPr/>
        </p:nvGrpSpPr>
        <p:grpSpPr>
          <a:xfrm>
            <a:off x="2873520" y="1797120"/>
            <a:ext cx="630000" cy="1157040"/>
            <a:chOff x="2873520" y="1797120"/>
            <a:chExt cx="630000" cy="1157040"/>
          </a:xfrm>
        </p:grpSpPr>
        <p:sp>
          <p:nvSpPr>
            <p:cNvPr id="1021" name="Text Box 9"/>
            <p:cNvSpPr/>
            <p:nvPr/>
          </p:nvSpPr>
          <p:spPr>
            <a:xfrm>
              <a:off x="2875320" y="2250720"/>
              <a:ext cx="628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Arial"/>
                  <a:ea typeface="宋体"/>
                </a:rPr>
                <a:t>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2" name="Group 10"/>
            <p:cNvGrpSpPr/>
            <p:nvPr/>
          </p:nvGrpSpPr>
          <p:grpSpPr>
            <a:xfrm>
              <a:off x="2873520" y="1797120"/>
              <a:ext cx="101880" cy="1157040"/>
              <a:chOff x="2873520" y="1797120"/>
              <a:chExt cx="101880" cy="1157040"/>
            </a:xfrm>
          </p:grpSpPr>
          <p:grpSp>
            <p:nvGrpSpPr>
              <p:cNvPr id="1023" name=""/>
              <p:cNvGrpSpPr/>
              <p:nvPr/>
            </p:nvGrpSpPr>
            <p:grpSpPr>
              <a:xfrm>
                <a:off x="2878560" y="1797120"/>
                <a:ext cx="360" cy="1155240"/>
                <a:chOff x="2878560" y="1797120"/>
                <a:chExt cx="360" cy="1155240"/>
              </a:xfrm>
            </p:grpSpPr>
            <p:sp>
              <p:nvSpPr>
                <p:cNvPr id="1024" name="Line 11"/>
                <p:cNvSpPr/>
                <p:nvPr/>
              </p:nvSpPr>
              <p:spPr>
                <a:xfrm>
                  <a:off x="2878560" y="1797120"/>
                  <a:ext cx="0" cy="115524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5" name=""/>
                <p:cNvSpPr txBox="1"/>
                <p:nvPr/>
              </p:nvSpPr>
              <p:spPr>
                <a:xfrm>
                  <a:off x="2878560" y="1797120"/>
                  <a:ext cx="360" cy="1155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6" name=""/>
              <p:cNvGrpSpPr/>
              <p:nvPr/>
            </p:nvGrpSpPr>
            <p:grpSpPr>
              <a:xfrm>
                <a:off x="2873520" y="2855160"/>
                <a:ext cx="101520" cy="360"/>
                <a:chOff x="2873520" y="2855160"/>
                <a:chExt cx="101520" cy="360"/>
              </a:xfrm>
            </p:grpSpPr>
            <p:sp>
              <p:nvSpPr>
                <p:cNvPr id="1027" name="Line 12"/>
                <p:cNvSpPr/>
                <p:nvPr/>
              </p:nvSpPr>
              <p:spPr>
                <a:xfrm>
                  <a:off x="2873520" y="2855160"/>
                  <a:ext cx="101520" cy="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8" name=""/>
                <p:cNvSpPr txBox="1"/>
                <p:nvPr/>
              </p:nvSpPr>
              <p:spPr>
                <a:xfrm>
                  <a:off x="2873520" y="2855160"/>
                  <a:ext cx="101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9" name=""/>
              <p:cNvGrpSpPr/>
              <p:nvPr/>
            </p:nvGrpSpPr>
            <p:grpSpPr>
              <a:xfrm>
                <a:off x="2975040" y="2850840"/>
                <a:ext cx="360" cy="103320"/>
                <a:chOff x="2975040" y="2850840"/>
                <a:chExt cx="360" cy="103320"/>
              </a:xfrm>
            </p:grpSpPr>
            <p:sp>
              <p:nvSpPr>
                <p:cNvPr id="1030" name="Line 13"/>
                <p:cNvSpPr/>
                <p:nvPr/>
              </p:nvSpPr>
              <p:spPr>
                <a:xfrm>
                  <a:off x="2975040" y="2850840"/>
                  <a:ext cx="0" cy="10332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1" name=""/>
                <p:cNvSpPr txBox="1"/>
                <p:nvPr/>
              </p:nvSpPr>
              <p:spPr>
                <a:xfrm>
                  <a:off x="2975040" y="2850840"/>
                  <a:ext cx="360" cy="103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032" name="Text Box 14"/>
          <p:cNvSpPr/>
          <p:nvPr/>
        </p:nvSpPr>
        <p:spPr>
          <a:xfrm>
            <a:off x="1993680" y="3789360"/>
            <a:ext cx="4970880" cy="17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平行的两条边分别叫做梯形的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上底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和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下底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通过上底一个顶点向对边（下底）引垂线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这点和垂足之间的线段叫做梯形的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高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Text Box 2"/>
          <p:cNvSpPr/>
          <p:nvPr/>
        </p:nvSpPr>
        <p:spPr>
          <a:xfrm>
            <a:off x="2231640" y="96984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认识两种特殊的梯形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Text Box 3"/>
          <p:cNvSpPr/>
          <p:nvPr/>
        </p:nvSpPr>
        <p:spPr>
          <a:xfrm>
            <a:off x="2430000" y="1690560"/>
            <a:ext cx="316800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两腰相等的梯形叫做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等腰梯形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有一个角是直角的梯形叫做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直角梯形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Text Box 12"/>
          <p:cNvSpPr/>
          <p:nvPr/>
        </p:nvSpPr>
        <p:spPr>
          <a:xfrm>
            <a:off x="1638360" y="4614840"/>
            <a:ext cx="24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楷体_GB2312"/>
                <a:ea typeface="黑体"/>
              </a:rPr>
              <a:t>等腰梯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Text Box 13"/>
          <p:cNvSpPr/>
          <p:nvPr/>
        </p:nvSpPr>
        <p:spPr>
          <a:xfrm>
            <a:off x="4249800" y="4614840"/>
            <a:ext cx="24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楷体_GB2312"/>
                <a:ea typeface="黑体"/>
              </a:rPr>
              <a:t>直角梯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7" name="Picture 6" descr=""/>
          <p:cNvPicPr/>
          <p:nvPr/>
        </p:nvPicPr>
        <p:blipFill>
          <a:blip r:embed="rId1"/>
          <a:stretch/>
        </p:blipFill>
        <p:spPr>
          <a:xfrm>
            <a:off x="1860480" y="3521160"/>
            <a:ext cx="1940040" cy="1079280"/>
          </a:xfrm>
          <a:prstGeom prst="rect">
            <a:avLst/>
          </a:prstGeom>
          <a:ln w="0">
            <a:noFill/>
          </a:ln>
        </p:spPr>
      </p:pic>
      <p:pic>
        <p:nvPicPr>
          <p:cNvPr id="1038" name="Picture 7" descr=""/>
          <p:cNvPicPr/>
          <p:nvPr/>
        </p:nvPicPr>
        <p:blipFill>
          <a:blip r:embed="rId2"/>
          <a:stretch/>
        </p:blipFill>
        <p:spPr>
          <a:xfrm>
            <a:off x="4784760" y="3492360"/>
            <a:ext cx="1343160" cy="1103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9" name="Picture 5" descr=""/>
          <p:cNvPicPr/>
          <p:nvPr/>
        </p:nvPicPr>
        <p:blipFill>
          <a:blip r:embed="rId1"/>
          <a:stretch/>
        </p:blipFill>
        <p:spPr>
          <a:xfrm>
            <a:off x="900000" y="2852640"/>
            <a:ext cx="7344000" cy="1292400"/>
          </a:xfrm>
          <a:prstGeom prst="rect">
            <a:avLst/>
          </a:prstGeom>
          <a:ln w="0">
            <a:noFill/>
          </a:ln>
        </p:spPr>
      </p:pic>
      <p:sp>
        <p:nvSpPr>
          <p:cNvPr id="1040" name="Rectangle 2"/>
          <p:cNvSpPr/>
          <p:nvPr/>
        </p:nvSpPr>
        <p:spPr>
          <a:xfrm>
            <a:off x="755640" y="1413000"/>
            <a:ext cx="777708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下面哪些图形是梯形？画出每个梯形的高，分别指出它们的上底、下底和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矩形 24"/>
          <p:cNvSpPr/>
          <p:nvPr/>
        </p:nvSpPr>
        <p:spPr>
          <a:xfrm>
            <a:off x="6788160" y="4613400"/>
            <a:ext cx="91764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黑体"/>
              </a:rPr>
              <a:t>梯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2" name="Group 8"/>
          <p:cNvGrpSpPr/>
          <p:nvPr/>
        </p:nvGrpSpPr>
        <p:grpSpPr>
          <a:xfrm>
            <a:off x="3312360" y="3557520"/>
            <a:ext cx="620640" cy="287640"/>
            <a:chOff x="3312360" y="3557520"/>
            <a:chExt cx="620640" cy="287640"/>
          </a:xfrm>
        </p:grpSpPr>
        <p:sp>
          <p:nvSpPr>
            <p:cNvPr id="1043" name="直接连接符 29"/>
            <p:cNvSpPr/>
            <p:nvPr/>
          </p:nvSpPr>
          <p:spPr>
            <a:xfrm>
              <a:off x="3312360" y="3657960"/>
              <a:ext cx="620640" cy="187200"/>
            </a:xfrm>
            <a:prstGeom prst="line">
              <a:avLst/>
            </a:prstGeom>
            <a:ln w="1908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4" name="Group 22"/>
            <p:cNvGrpSpPr/>
            <p:nvPr/>
          </p:nvGrpSpPr>
          <p:grpSpPr>
            <a:xfrm>
              <a:off x="3331800" y="3557520"/>
              <a:ext cx="92160" cy="123840"/>
              <a:chOff x="3331800" y="3557520"/>
              <a:chExt cx="92160" cy="123840"/>
            </a:xfrm>
          </p:grpSpPr>
          <p:grpSp>
            <p:nvGrpSpPr>
              <p:cNvPr id="1045" name=""/>
              <p:cNvGrpSpPr/>
              <p:nvPr/>
            </p:nvGrpSpPr>
            <p:grpSpPr>
              <a:xfrm>
                <a:off x="3331800" y="3557520"/>
                <a:ext cx="92160" cy="30600"/>
                <a:chOff x="3331800" y="3557520"/>
                <a:chExt cx="92160" cy="30600"/>
              </a:xfrm>
            </p:grpSpPr>
            <p:sp>
              <p:nvSpPr>
                <p:cNvPr id="1046" name="Line 20"/>
                <p:cNvSpPr/>
                <p:nvPr/>
              </p:nvSpPr>
              <p:spPr>
                <a:xfrm>
                  <a:off x="3331800" y="3557520"/>
                  <a:ext cx="92160" cy="3060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7" name=""/>
                <p:cNvSpPr txBox="1"/>
                <p:nvPr/>
              </p:nvSpPr>
              <p:spPr>
                <a:xfrm>
                  <a:off x="3331800" y="3557520"/>
                  <a:ext cx="92160" cy="3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16200" bIns="-162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48" name=""/>
              <p:cNvGrpSpPr/>
              <p:nvPr/>
            </p:nvGrpSpPr>
            <p:grpSpPr>
              <a:xfrm>
                <a:off x="3399120" y="3588120"/>
                <a:ext cx="24480" cy="93240"/>
                <a:chOff x="3399120" y="3588120"/>
                <a:chExt cx="24480" cy="93240"/>
              </a:xfrm>
            </p:grpSpPr>
            <p:sp>
              <p:nvSpPr>
                <p:cNvPr id="1049" name="Line 21"/>
                <p:cNvSpPr/>
                <p:nvPr/>
              </p:nvSpPr>
              <p:spPr>
                <a:xfrm flipH="1">
                  <a:off x="3399120" y="3588120"/>
                  <a:ext cx="24480" cy="9324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440" bIns="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0" name=""/>
                <p:cNvSpPr txBox="1"/>
                <p:nvPr/>
              </p:nvSpPr>
              <p:spPr>
                <a:xfrm>
                  <a:off x="3399120" y="3588120"/>
                  <a:ext cx="24480" cy="93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440" bIns="46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051" name="Group 13"/>
          <p:cNvGrpSpPr/>
          <p:nvPr/>
        </p:nvGrpSpPr>
        <p:grpSpPr>
          <a:xfrm>
            <a:off x="6877080" y="3213000"/>
            <a:ext cx="95760" cy="820800"/>
            <a:chOff x="6877080" y="3213000"/>
            <a:chExt cx="95760" cy="820800"/>
          </a:xfrm>
        </p:grpSpPr>
        <p:sp>
          <p:nvSpPr>
            <p:cNvPr id="1052" name="直接连接符 26"/>
            <p:cNvSpPr/>
            <p:nvPr/>
          </p:nvSpPr>
          <p:spPr>
            <a:xfrm>
              <a:off x="6877080" y="3213000"/>
              <a:ext cx="1800" cy="820800"/>
            </a:xfrm>
            <a:prstGeom prst="line">
              <a:avLst/>
            </a:prstGeom>
            <a:ln w="1908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53" name="Group 25"/>
            <p:cNvGrpSpPr/>
            <p:nvPr/>
          </p:nvGrpSpPr>
          <p:grpSpPr>
            <a:xfrm>
              <a:off x="6877080" y="3932280"/>
              <a:ext cx="95760" cy="96120"/>
              <a:chOff x="6877080" y="3932280"/>
              <a:chExt cx="95760" cy="96120"/>
            </a:xfrm>
          </p:grpSpPr>
          <p:grpSp>
            <p:nvGrpSpPr>
              <p:cNvPr id="1054" name=""/>
              <p:cNvGrpSpPr/>
              <p:nvPr/>
            </p:nvGrpSpPr>
            <p:grpSpPr>
              <a:xfrm>
                <a:off x="6877080" y="3932280"/>
                <a:ext cx="95400" cy="360"/>
                <a:chOff x="6877080" y="3932280"/>
                <a:chExt cx="95400" cy="360"/>
              </a:xfrm>
            </p:grpSpPr>
            <p:sp>
              <p:nvSpPr>
                <p:cNvPr id="1055" name="Line 23"/>
                <p:cNvSpPr/>
                <p:nvPr/>
              </p:nvSpPr>
              <p:spPr>
                <a:xfrm>
                  <a:off x="6877080" y="3932280"/>
                  <a:ext cx="95400" cy="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6" name=""/>
                <p:cNvSpPr txBox="1"/>
                <p:nvPr/>
              </p:nvSpPr>
              <p:spPr>
                <a:xfrm>
                  <a:off x="6877080" y="3932280"/>
                  <a:ext cx="9540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57" name=""/>
              <p:cNvGrpSpPr/>
              <p:nvPr/>
            </p:nvGrpSpPr>
            <p:grpSpPr>
              <a:xfrm>
                <a:off x="6972480" y="3932280"/>
                <a:ext cx="360" cy="96120"/>
                <a:chOff x="6972480" y="3932280"/>
                <a:chExt cx="360" cy="96120"/>
              </a:xfrm>
            </p:grpSpPr>
            <p:sp>
              <p:nvSpPr>
                <p:cNvPr id="1058" name="Line 24"/>
                <p:cNvSpPr/>
                <p:nvPr/>
              </p:nvSpPr>
              <p:spPr>
                <a:xfrm>
                  <a:off x="6972480" y="3932280"/>
                  <a:ext cx="0" cy="9612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9" name=""/>
                <p:cNvSpPr txBox="1"/>
                <p:nvPr/>
              </p:nvSpPr>
              <p:spPr>
                <a:xfrm>
                  <a:off x="6972480" y="3932280"/>
                  <a:ext cx="360" cy="9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060" name="Group 28"/>
          <p:cNvGrpSpPr/>
          <p:nvPr/>
        </p:nvGrpSpPr>
        <p:grpSpPr>
          <a:xfrm>
            <a:off x="2425680" y="3909960"/>
            <a:ext cx="117360" cy="114480"/>
            <a:chOff x="2425680" y="3909960"/>
            <a:chExt cx="117360" cy="114480"/>
          </a:xfrm>
        </p:grpSpPr>
        <p:grpSp>
          <p:nvGrpSpPr>
            <p:cNvPr id="1061" name=""/>
            <p:cNvGrpSpPr/>
            <p:nvPr/>
          </p:nvGrpSpPr>
          <p:grpSpPr>
            <a:xfrm>
              <a:off x="2425680" y="3909960"/>
              <a:ext cx="117360" cy="360"/>
              <a:chOff x="2425680" y="3909960"/>
              <a:chExt cx="117360" cy="360"/>
            </a:xfrm>
          </p:grpSpPr>
          <p:sp>
            <p:nvSpPr>
              <p:cNvPr id="1062" name="Line 26"/>
              <p:cNvSpPr/>
              <p:nvPr/>
            </p:nvSpPr>
            <p:spPr>
              <a:xfrm>
                <a:off x="2425680" y="3909960"/>
                <a:ext cx="11736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3" name=""/>
              <p:cNvSpPr txBox="1"/>
              <p:nvPr/>
            </p:nvSpPr>
            <p:spPr>
              <a:xfrm>
                <a:off x="2425680" y="3909960"/>
                <a:ext cx="1173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4" name=""/>
            <p:cNvGrpSpPr/>
            <p:nvPr/>
          </p:nvGrpSpPr>
          <p:grpSpPr>
            <a:xfrm>
              <a:off x="2425680" y="3909960"/>
              <a:ext cx="360" cy="114480"/>
              <a:chOff x="2425680" y="3909960"/>
              <a:chExt cx="360" cy="114480"/>
            </a:xfrm>
          </p:grpSpPr>
          <p:sp>
            <p:nvSpPr>
              <p:cNvPr id="1065" name="Line 27"/>
              <p:cNvSpPr/>
              <p:nvPr/>
            </p:nvSpPr>
            <p:spPr>
              <a:xfrm>
                <a:off x="2425680" y="3909960"/>
                <a:ext cx="0" cy="11448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6" name=""/>
              <p:cNvSpPr txBox="1"/>
              <p:nvPr/>
            </p:nvSpPr>
            <p:spPr>
              <a:xfrm>
                <a:off x="2425680" y="3909960"/>
                <a:ext cx="360" cy="114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67" name="矩形 24"/>
          <p:cNvSpPr/>
          <p:nvPr/>
        </p:nvSpPr>
        <p:spPr>
          <a:xfrm>
            <a:off x="3222720" y="4613400"/>
            <a:ext cx="9111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黑体"/>
              </a:rPr>
              <a:t>梯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矩形 24"/>
          <p:cNvSpPr/>
          <p:nvPr/>
        </p:nvSpPr>
        <p:spPr>
          <a:xfrm>
            <a:off x="1619280" y="4613400"/>
            <a:ext cx="9111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黑体"/>
              </a:rPr>
              <a:t>梯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Text Box 4"/>
          <p:cNvSpPr/>
          <p:nvPr/>
        </p:nvSpPr>
        <p:spPr>
          <a:xfrm>
            <a:off x="6811920" y="2857680"/>
            <a:ext cx="76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上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Text Box 5"/>
          <p:cNvSpPr/>
          <p:nvPr/>
        </p:nvSpPr>
        <p:spPr>
          <a:xfrm>
            <a:off x="1452600" y="278604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下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Text Box 7"/>
          <p:cNvSpPr/>
          <p:nvPr/>
        </p:nvSpPr>
        <p:spPr>
          <a:xfrm>
            <a:off x="857160" y="353232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Text Box 4"/>
          <p:cNvSpPr/>
          <p:nvPr/>
        </p:nvSpPr>
        <p:spPr>
          <a:xfrm>
            <a:off x="1571760" y="4071960"/>
            <a:ext cx="76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上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Text Box 4"/>
          <p:cNvSpPr/>
          <p:nvPr/>
        </p:nvSpPr>
        <p:spPr>
          <a:xfrm rot="805800">
            <a:off x="3935160" y="3347640"/>
            <a:ext cx="7603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Text Box 5"/>
          <p:cNvSpPr/>
          <p:nvPr/>
        </p:nvSpPr>
        <p:spPr>
          <a:xfrm rot="820800">
            <a:off x="2804760" y="2989440"/>
            <a:ext cx="7621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Text Box 5"/>
          <p:cNvSpPr/>
          <p:nvPr/>
        </p:nvSpPr>
        <p:spPr>
          <a:xfrm>
            <a:off x="6786720" y="4032360"/>
            <a:ext cx="76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下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Text Box 7"/>
          <p:cNvSpPr/>
          <p:nvPr/>
        </p:nvSpPr>
        <p:spPr>
          <a:xfrm>
            <a:off x="2500200" y="335772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Text Box 7"/>
          <p:cNvSpPr/>
          <p:nvPr/>
        </p:nvSpPr>
        <p:spPr>
          <a:xfrm>
            <a:off x="3657600" y="2746440"/>
            <a:ext cx="62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Text Box 7"/>
          <p:cNvSpPr/>
          <p:nvPr/>
        </p:nvSpPr>
        <p:spPr>
          <a:xfrm>
            <a:off x="3371760" y="400068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Text Box 7"/>
          <p:cNvSpPr/>
          <p:nvPr/>
        </p:nvSpPr>
        <p:spPr>
          <a:xfrm>
            <a:off x="6014880" y="335772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Text Box 7"/>
          <p:cNvSpPr/>
          <p:nvPr/>
        </p:nvSpPr>
        <p:spPr>
          <a:xfrm>
            <a:off x="7858080" y="3286080"/>
            <a:ext cx="62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1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1082" name="圆角矩形 5" descr=""/>
            <p:cNvPicPr/>
            <p:nvPr/>
          </p:nvPicPr>
          <p:blipFill>
            <a:blip r:embed="rId2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83" name="组合 4"/>
            <p:cNvGrpSpPr/>
            <p:nvPr/>
          </p:nvGrpSpPr>
          <p:grpSpPr>
            <a:xfrm>
              <a:off x="0" y="196560"/>
              <a:ext cx="429840" cy="273600"/>
              <a:chOff x="0" y="196560"/>
              <a:chExt cx="429840" cy="273600"/>
            </a:xfrm>
          </p:grpSpPr>
          <p:sp>
            <p:nvSpPr>
              <p:cNvPr id="1084" name="椭圆 11"/>
              <p:cNvSpPr/>
              <p:nvPr/>
            </p:nvSpPr>
            <p:spPr>
              <a:xfrm rot="16200000">
                <a:off x="242640" y="36072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85" name="椭圆 13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32364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6" name="椭圆 29"/>
              <p:cNvSpPr/>
              <p:nvPr/>
            </p:nvSpPr>
            <p:spPr>
              <a:xfrm rot="16200000">
                <a:off x="242640" y="23400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87" name="椭圆 30" descr=""/>
              <p:cNvPicPr/>
              <p:nvPr/>
            </p:nvPicPr>
            <p:blipFill>
              <a:blip r:embed="rId4"/>
              <a:stretch/>
            </p:blipFill>
            <p:spPr>
              <a:xfrm>
                <a:off x="218160" y="21096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88" name="圆角矩形 31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4020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89" name="圆角矩形 32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3117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90" name="圆角矩形 33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22464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91" name="圆角矩形 34" descr=""/>
              <p:cNvPicPr/>
              <p:nvPr/>
            </p:nvPicPr>
            <p:blipFill>
              <a:blip r:embed="rId8"/>
              <a:stretch/>
            </p:blipFill>
            <p:spPr>
              <a:xfrm>
                <a:off x="0" y="1965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092" name="Rectangle 64"/>
          <p:cNvSpPr/>
          <p:nvPr/>
        </p:nvSpPr>
        <p:spPr>
          <a:xfrm>
            <a:off x="527040" y="179280"/>
            <a:ext cx="24796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二、巩固练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3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1094" name="圆角矩形 5" descr=""/>
            <p:cNvPicPr/>
            <p:nvPr/>
          </p:nvPicPr>
          <p:blipFill>
            <a:blip r:embed="rId1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95" name="组合 4"/>
            <p:cNvGrpSpPr/>
            <p:nvPr/>
          </p:nvGrpSpPr>
          <p:grpSpPr>
            <a:xfrm>
              <a:off x="0" y="196560"/>
              <a:ext cx="429840" cy="273600"/>
              <a:chOff x="0" y="196560"/>
              <a:chExt cx="429840" cy="273600"/>
            </a:xfrm>
          </p:grpSpPr>
          <p:sp>
            <p:nvSpPr>
              <p:cNvPr id="1096" name="椭圆 11"/>
              <p:cNvSpPr/>
              <p:nvPr/>
            </p:nvSpPr>
            <p:spPr>
              <a:xfrm rot="16200000">
                <a:off x="242640" y="36072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97" name="椭圆 13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2364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98" name="椭圆 29"/>
              <p:cNvSpPr/>
              <p:nvPr/>
            </p:nvSpPr>
            <p:spPr>
              <a:xfrm rot="16200000">
                <a:off x="242640" y="23400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99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1096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00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4020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01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117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02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464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03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65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104" name="Rectangle 64"/>
          <p:cNvSpPr/>
          <p:nvPr/>
        </p:nvSpPr>
        <p:spPr>
          <a:xfrm>
            <a:off x="365040" y="76320"/>
            <a:ext cx="294660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三、课堂小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TextBox 32"/>
          <p:cNvSpPr/>
          <p:nvPr/>
        </p:nvSpPr>
        <p:spPr>
          <a:xfrm>
            <a:off x="365040" y="984240"/>
            <a:ext cx="844884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cc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.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只有一组对边互相平行的四边形叫做梯形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     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2.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梯形的高是从上底的一个点向下底所作的垂直线段。平行四边形能作两种长度的高，梯形只有一种长度的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6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1107" name="圆角矩形 5" descr=""/>
            <p:cNvPicPr/>
            <p:nvPr/>
          </p:nvPicPr>
          <p:blipFill>
            <a:blip r:embed="rId1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08" name="组合 4"/>
            <p:cNvGrpSpPr/>
            <p:nvPr/>
          </p:nvGrpSpPr>
          <p:grpSpPr>
            <a:xfrm>
              <a:off x="0" y="196560"/>
              <a:ext cx="429840" cy="273600"/>
              <a:chOff x="0" y="196560"/>
              <a:chExt cx="429840" cy="273600"/>
            </a:xfrm>
          </p:grpSpPr>
          <p:sp>
            <p:nvSpPr>
              <p:cNvPr id="1109" name="椭圆 11"/>
              <p:cNvSpPr/>
              <p:nvPr/>
            </p:nvSpPr>
            <p:spPr>
              <a:xfrm rot="16200000">
                <a:off x="242640" y="36072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10" name="椭圆 13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2364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1" name="椭圆 29"/>
              <p:cNvSpPr/>
              <p:nvPr/>
            </p:nvSpPr>
            <p:spPr>
              <a:xfrm rot="16200000">
                <a:off x="242640" y="23400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12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1096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13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4020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14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117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15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464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16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65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117" name="Rectangle 64"/>
          <p:cNvSpPr/>
          <p:nvPr/>
        </p:nvSpPr>
        <p:spPr>
          <a:xfrm>
            <a:off x="438120" y="130320"/>
            <a:ext cx="26481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四、拓展训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文本框 99"/>
          <p:cNvSpPr/>
          <p:nvPr/>
        </p:nvSpPr>
        <p:spPr>
          <a:xfrm>
            <a:off x="279360" y="776160"/>
            <a:ext cx="8445600" cy="32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选一选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把一个长方形框架拉成一个平行四边形，这个平行四边形的周长比原长方形的周长（   ）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、大         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、小         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、一样大        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D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、无法比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从直线外一点到这条直线的距离，是指这一点到这条直线的（   ）的长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、线段       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、射线       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、直线          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D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、垂直线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在一个等腰梯形中画一条线段，可以将它分割成两个完全一样的（   ）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、梯形      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、平行四边形     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、三角形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文本框 1"/>
          <p:cNvSpPr/>
          <p:nvPr/>
        </p:nvSpPr>
        <p:spPr>
          <a:xfrm>
            <a:off x="1911240" y="1822320"/>
            <a:ext cx="43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文本框 2"/>
          <p:cNvSpPr/>
          <p:nvPr/>
        </p:nvSpPr>
        <p:spPr>
          <a:xfrm>
            <a:off x="7493040" y="2738520"/>
            <a:ext cx="43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文本框 3"/>
          <p:cNvSpPr/>
          <p:nvPr/>
        </p:nvSpPr>
        <p:spPr>
          <a:xfrm>
            <a:off x="7985160" y="3643200"/>
            <a:ext cx="43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25T05:56:24Z</dcterms:created>
  <dc:creator/>
  <dc:description/>
  <dc:language>en-US</dc:language>
  <cp:lastModifiedBy>万润仪器贸易公司</cp:lastModifiedBy>
  <dcterms:modified xsi:type="dcterms:W3CDTF">2020-08-21T08:56:59Z</dcterms:modified>
  <cp:revision>77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